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53B25-70AA-4BF6-B901-FB8EBBEE7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E77B2-3460-49F9-8341-31D2F5982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02D2C-57ED-4683-9B29-EEA82B35C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0A711-08C8-4DE5-95CA-6B6B0BD3B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75F0-04C9-4E47-AE05-09151A46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0F626-6804-4350-93AB-8FE2FD569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A623B-A5D8-48DF-AC4A-1AFCD525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A84A6-ED42-4A83-9B2E-C8A9DAB8B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8F57-0C2B-415F-940B-25FF92317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33B9-8577-457A-A84C-94DE1F22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AA45B-07C6-4334-81F6-30BDB45F7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9AC3-6A08-4CBA-9A63-52ACF472F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D97A-FCB9-4E7A-AAE8-1D1DE65FFC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gstfcola"/>
          <p:cNvPicPr/>
          <p:nvPr/>
        </p:nvPicPr>
        <p:blipFill>
          <a:blip r:embed="rId1"/>
          <a:stretch/>
        </p:blipFill>
        <p:spPr>
          <a:xfrm>
            <a:off x="179280" y="115920"/>
            <a:ext cx="1513080" cy="372960"/>
          </a:xfrm>
          <a:prstGeom prst="rect">
            <a:avLst/>
          </a:prstGeom>
          <a:ln w="0">
            <a:noFill/>
          </a:ln>
        </p:spPr>
      </p:pic>
      <p:pic>
        <p:nvPicPr>
          <p:cNvPr id="42" name="Picture 14" descr="Illustration of normal blood cells (red discs) along with cancer cells (black spheres) floating through a blood vessel."/>
          <p:cNvPicPr/>
          <p:nvPr/>
        </p:nvPicPr>
        <p:blipFill>
          <a:blip r:embed="rId2"/>
          <a:stretch/>
        </p:blipFill>
        <p:spPr>
          <a:xfrm>
            <a:off x="1908000" y="115920"/>
            <a:ext cx="790920" cy="433440"/>
          </a:xfrm>
          <a:prstGeom prst="rect">
            <a:avLst/>
          </a:prstGeom>
          <a:ln w="0">
            <a:noFill/>
          </a:ln>
        </p:spPr>
      </p:pic>
      <p:graphicFrame>
        <p:nvGraphicFramePr>
          <p:cNvPr id="43" name=""/>
          <p:cNvGraphicFramePr/>
          <p:nvPr/>
        </p:nvGraphicFramePr>
        <p:xfrm>
          <a:off x="108000" y="657360"/>
          <a:ext cx="4753080" cy="6175080"/>
        </p:xfrm>
        <a:graphic>
          <a:graphicData uri="http://schemas.openxmlformats.org/drawingml/2006/table">
            <a:tbl>
              <a:tblPr/>
              <a:tblGrid>
                <a:gridCol w="966600"/>
                <a:gridCol w="3786480"/>
              </a:tblGrid>
              <a:tr h="155520">
                <a:tc gridSpan="2">
                  <a:txBody>
                    <a:bodyPr lIns="2880" rIns="2880" tIns="28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1" lang="en-GB" sz="800" spc="-1" strike="noStrike">
                          <a:solidFill>
                            <a:srgbClr val="000000"/>
                          </a:solidFill>
                          <a:latin typeface="Calibri"/>
                        </a:rPr>
                        <a:t>Recruiting MPN Trials </a:t>
                      </a: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HAZA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elerated or blast phase MP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Prof Claire Harris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Phase 1b Study to assess the safety and tolerability of oral Ruxolitinib in combination with Azacitidine in patients with Advanced Phase MPN, including MDS or AML arising from MP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ge 16 and over, Diagnosis of ET,PV or MF with either bone marrow blasts (with or without dysplastic changes) or &gt;20% bone marrow blasts, ECOG performance status:0-3.</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240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CAMBRIDG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Observation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Prof Claire Harrison</a:t>
                      </a: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Causes of Clonal Blood Cell Disord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tients with clonal haematological disorders.</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476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MEASUR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Observa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ll MP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PI: Dr Deepti Radi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MPN Experimental Assessment of Symptoms by Utilizing Repetitive Evaluation (MEASURES) Trial: Serial Assessment of Symptomatic Response to Non Experimental Medical Therapies and/or Phlebotomy in Patients with Myeloproliferative Neoplasm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a:t>
                      </a:r>
                      <a:r>
                        <a:rPr b="0" lang="en-GB" sz="800" spc="-1" strike="noStrike">
                          <a:solidFill>
                            <a:srgbClr val="000000"/>
                          </a:solidFill>
                          <a:latin typeface="Calibri"/>
                        </a:rPr>
                        <a:t>All MPN patients starting a new, therapeutic intervention.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5120">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AMAR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ll MP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Prof Claire Harris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Effects of TAMoxifen on the Mutant Allele Burden and Disease Course in Patients with MyeloprolifeRatIve Neoplasm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a:t>
                      </a:r>
                      <a:r>
                        <a:rPr b="0" lang="en-GB" sz="800" spc="-1" strike="noStrike">
                          <a:solidFill>
                            <a:srgbClr val="000000"/>
                          </a:solidFill>
                          <a:latin typeface="Calibri"/>
                        </a:rPr>
                        <a:t>PV,ET,MF stable disease on hydroxurea, bilirubin or ruxolutinib. No prior thrombosis. Age over 60, men aged between 50-59 may be considered, women must be post-menopausal.</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35120">
                <a:tc>
                  <a:txBody>
                    <a:bodyPr lIns="2880" rIns="2880" tIns="2880" bIns="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1" lang="en-GB" sz="800" spc="-1" strike="noStrike">
                          <a:solidFill>
                            <a:srgbClr val="000000"/>
                          </a:solidFill>
                          <a:latin typeface="Calibri"/>
                        </a:rPr>
                        <a:t>BLU-285-2101</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 </a:t>
                      </a: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Systemic mastocytos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I: Dr Deepti Radia</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ctr" marL="2880" marR="288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0" rIns="3600" tIns="3600" bIns="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Phase 1 Study of BLU-285 in Patients with Advanced Systemic Mastocytosis (advSM) and Relapsed or Refractory Myeloid Malignanci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Calibri"/>
                        </a:rPr>
                        <a:t>-</a:t>
                      </a:r>
                      <a:r>
                        <a:rPr b="0" lang="en-GB" sz="800" spc="-1" strike="noStrike">
                          <a:solidFill>
                            <a:srgbClr val="000000"/>
                          </a:solidFill>
                          <a:latin typeface="Calibri"/>
                        </a:rPr>
                        <a:t>Age 18 over and have an ECOG performance status of 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rt 1 of study: Patients with advSM or other relapsed or refractory myeloid malignanc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rt 2 of study: Patients are split into 3 groups-ASM,SM,AHNMD and MCL</a:t>
                      </a:r>
                      <a:endParaRPr b="0" lang="en-US" sz="800" spc="-1" strike="noStrike">
                        <a:solidFill>
                          <a:srgbClr val="000000"/>
                        </a:solidFill>
                        <a:latin typeface="Arial"/>
                      </a:endParaRPr>
                    </a:p>
                  </a:txBody>
                  <a:tcPr anchor="ctr" marR="36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70164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PN Clot</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Observational)</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PVor ET </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rPr>
                        <a:t>Treatment of Polycythaemia Vera and Essential Thrombocythaemia: influence on the clot structure.</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US" sz="800" spc="-1" strike="noStrike">
                          <a:solidFill>
                            <a:srgbClr val="000000"/>
                          </a:solidFill>
                          <a:latin typeface="Calibri"/>
                        </a:rPr>
                        <a:t>-All men and women, older than 18 years, with a diagnosis of PV or ET (primary or secondary.</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04148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CYTE</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CB 54828-203</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yeloid lymphoid disorders with 8p11</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A Phase 2, Open-Label, Monotherapy, Multicenter Study to Evaluate the Efficacy and Safety of INCB054828 in Subjects With Myeloid/Lymphoid Neoplasms With FGFR1 Rearrangement </a:t>
                      </a:r>
                      <a:r>
                        <a:rPr b="0" lang="en-GB"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GB" sz="800" spc="-1" strike="noStrike">
                          <a:solidFill>
                            <a:srgbClr val="000000"/>
                          </a:solidFill>
                          <a:latin typeface="Calibri"/>
                        </a:rPr>
                        <a:t>Age 18 and over, lymphoid or myeloid neoplasm with 8p11 rearrangement known to lead to FGFR1 activation and subjects who are not candidates for stem cell transplantation but have progressed, will be eligible.</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94428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Calibri"/>
                          <a:ea typeface="MS Mincho"/>
                        </a:rPr>
                        <a:t>Navitoclax (ABT-263)</a:t>
                      </a:r>
                      <a:r>
                        <a:rPr b="1" lang="en-GB" sz="800" spc="-1" strike="noStrike">
                          <a:solidFill>
                            <a:srgbClr val="000000"/>
                          </a:solidFill>
                          <a:latin typeface="Calibri"/>
                          <a:ea typeface="MS Mincho"/>
                        </a:rPr>
                        <a:t> </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Myelofibrosis</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ea typeface="ＭＳ Ｐゴシック"/>
                        </a:rPr>
                        <a:t>A Phase 2 Single-Arm, Open-Label Study Evaluating Tolerability and Efficacy of Navitoclax in Combination with Ruxolitinib in Subjects with Myelofibrosis.</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US" sz="800" spc="-1" strike="noStrike">
                          <a:solidFill>
                            <a:srgbClr val="000000"/>
                          </a:solidFill>
                          <a:latin typeface="Calibri"/>
                          <a:ea typeface="ＭＳ Ｐゴシック"/>
                        </a:rPr>
                        <a:t>-Age 18 and over, diagnosis of primary MF,PPV_MF or PET_MF, ineligible or unwilling to undergo stem cell transplantation, Subjects must have received ruxolitinib therapy for at least 24 weeks and be on a stable dose of more than 10mg BID of ruxolitinib more than 8 weeks prior to 1</a:t>
                      </a:r>
                      <a:r>
                        <a:rPr b="0" lang="en-US" sz="800" spc="-1" strike="noStrike" baseline="30000">
                          <a:solidFill>
                            <a:srgbClr val="000000"/>
                          </a:solidFill>
                          <a:latin typeface="Calibri"/>
                          <a:ea typeface="ＭＳ Ｐゴシック"/>
                        </a:rPr>
                        <a:t>st</a:t>
                      </a:r>
                      <a:r>
                        <a:rPr b="0" lang="en-US" sz="800" spc="-1" strike="noStrike">
                          <a:solidFill>
                            <a:srgbClr val="000000"/>
                          </a:solidFill>
                          <a:latin typeface="Calibri"/>
                          <a:ea typeface="ＭＳ Ｐゴシック"/>
                        </a:rPr>
                        <a:t> dose of navitoclax, ECOG of 0.1 or 2.</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graphicFrame>
        <p:nvGraphicFramePr>
          <p:cNvPr id="44" name=""/>
          <p:cNvGraphicFramePr/>
          <p:nvPr/>
        </p:nvGraphicFramePr>
        <p:xfrm>
          <a:off x="4924440" y="658800"/>
          <a:ext cx="4175280" cy="4183200"/>
        </p:xfrm>
        <a:graphic>
          <a:graphicData uri="http://schemas.openxmlformats.org/drawingml/2006/table">
            <a:tbl>
              <a:tblPr/>
              <a:tblGrid>
                <a:gridCol w="998640"/>
                <a:gridCol w="3176640"/>
              </a:tblGrid>
              <a:tr h="212760">
                <a:tc gridSpan="2">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MPN Trials in Set-up</a:t>
                      </a:r>
                      <a:endParaRPr b="0" lang="en-US" sz="800" spc="-1" strike="noStrike">
                        <a:solidFill>
                          <a:srgbClr val="000000"/>
                        </a:solidFill>
                        <a:latin typeface="Arial"/>
                      </a:endParaRPr>
                    </a:p>
                  </a:txBody>
                  <a:tcPr anchor="ctr" marL="90000" marR="90000">
                    <a:lnL w="2880">
                      <a:solidFill>
                        <a:srgbClr val="000000"/>
                      </a:solidFill>
                    </a:lnL>
                    <a:lnR w="13680">
                      <a:solidFill>
                        <a:srgbClr val="000000"/>
                      </a:solidFill>
                    </a:lnR>
                    <a:lnT w="2880">
                      <a:solidFill>
                        <a:srgbClr val="000000"/>
                      </a:solidFill>
                    </a:lnT>
                    <a:lnB w="2880">
                      <a:solidFill>
                        <a:srgbClr val="000000"/>
                      </a:solidFill>
                    </a:lnB>
                    <a:solidFill>
                      <a:srgbClr val="cc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6680">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ACE-536 </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yelofibrosis</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A Phase 2, Multicenter, Open-Label Study to Evaluate the Efficacy and Safety of Luspatercept (ACE-536) in Subjects with Myeloproliferative Neoplasm-Associated Myelofibrosis and Anemia with and without Red Blood Cell-Transfusion Dependence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GB" sz="800" spc="-1" strike="noStrike">
                          <a:solidFill>
                            <a:srgbClr val="000000"/>
                          </a:solidFill>
                          <a:latin typeface="Calibri"/>
                        </a:rPr>
                        <a:t>-Age 18 or over, subject has MPN-associated myelofibrosis, subject has anemia and an ECOG performance score ≤2. Includes patients currently on ruxolitinib, but may also not be on the drug</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84312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PAC203 </a:t>
                      </a:r>
                      <a:r>
                        <a:rPr b="1" lang="en-GB" sz="800" spc="-1" strike="noStrike">
                          <a:solidFill>
                            <a:srgbClr val="000000"/>
                          </a:solidFill>
                          <a:latin typeface="Calibri"/>
                        </a:rPr>
                        <a:t>	</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Myelofibrosis</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rPr>
                        <a:t>An Open-Label, Randomized, Phase 2 Dose-Finding Study of Pacritinib in Patients with Primary Myelofibrosis Previously Treated with Ruxolitinib </a:t>
                      </a:r>
                      <a:endParaRPr b="0" lang="en-US" sz="800" spc="-1" strike="noStrike">
                        <a:solidFill>
                          <a:srgbClr val="000000"/>
                        </a:solidFill>
                        <a:latin typeface="Arial"/>
                      </a:endParaRPr>
                    </a:p>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GB" sz="800" spc="-1" strike="noStrike">
                          <a:solidFill>
                            <a:srgbClr val="000000"/>
                          </a:solidFill>
                          <a:latin typeface="Calibri"/>
                        </a:rPr>
                        <a:t>Eligibility Criteria: </a:t>
                      </a:r>
                      <a:r>
                        <a:rPr b="0" lang="en-US" sz="800" spc="-1" strike="noStrike">
                          <a:solidFill>
                            <a:srgbClr val="000000"/>
                          </a:solidFill>
                          <a:latin typeface="Calibri"/>
                        </a:rPr>
                        <a:t>-Diagnosed with PMF, prior ruxolitinib treatment failure, palpable splenomegaly of more than or equal to 5cm, peripheral blast count of less than 10%.</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82224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INForMeD</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ea typeface="MS Mincho"/>
                        </a:rPr>
                        <a:t>(Observa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Prof C Harrison</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Calibri"/>
                          <a:ea typeface="ＭＳ Ｐゴシック"/>
                        </a:rPr>
                        <a:t>An observational and biological research study to investigate the genetic and cellular basis of sporadic and familial myeloid disorders.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800" spc="-1" strike="noStrike">
                          <a:solidFill>
                            <a:srgbClr val="000000"/>
                          </a:solidFill>
                          <a:latin typeface="Calibri"/>
                          <a:ea typeface="ＭＳ Ｐゴシック"/>
                        </a:rPr>
                        <a:t>Eligibility Criteria:- </a:t>
                      </a:r>
                      <a:r>
                        <a:rPr b="0" lang="en-US" sz="800" spc="-1" strike="noStrike">
                          <a:solidFill>
                            <a:srgbClr val="000000"/>
                          </a:solidFill>
                          <a:latin typeface="Calibri"/>
                          <a:ea typeface="ＭＳ Ｐゴシック"/>
                        </a:rPr>
                        <a:t>Age 2 or over, patients under investigation for or diagnosed with a myeloid or related disorder, patient willing to give consent to the study.</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238400">
                <a:tc>
                  <a:txBody>
                    <a:bodyPr lIns="90000" rIns="90000" anchor="ctr">
                      <a:noAutofit/>
                    </a:bodyPr>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DCC-2618-01-001</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victus</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GB" sz="800" spc="-1" strike="noStrike">
                          <a:solidFill>
                            <a:srgbClr val="000000"/>
                          </a:solidFill>
                          <a:latin typeface="Calibri"/>
                        </a:rPr>
                        <a:t>(Interventional)</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I: Dr Deepti Radia</a:t>
                      </a: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gn="ct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multicentre Phase 1, Open-Label Study of DCC-2618 to assess safety, tolerability, efficacy and pharmacokinetics in patients with advanced malignanci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Calibri"/>
                        </a:rPr>
                        <a:t>Eligibility criteria:-  </a:t>
                      </a:r>
                      <a:r>
                        <a:rPr b="0" lang="en-GB" sz="800" spc="-1" strike="noStrike">
                          <a:solidFill>
                            <a:srgbClr val="000000"/>
                          </a:solidFill>
                          <a:latin typeface="Calibri"/>
                        </a:rPr>
                        <a:t>Age 18 or over, gastrointestinal stromal tumor patients must have KIT it PDGFRA mutation and must have progressed on or had intolerability to at least 1 but not more than 4 lines of systemic anticancer therapy, Systemic mastocytosis (SM patients) must have a confirmed diagnosis of advanced SM according to 2016 world health organisation (WHO) criteria for SM.</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45" name="Picture 11" descr=""/>
          <p:cNvPicPr/>
          <p:nvPr/>
        </p:nvPicPr>
        <p:blipFill>
          <a:blip r:embed="rId3"/>
          <a:stretch/>
        </p:blipFill>
        <p:spPr>
          <a:xfrm>
            <a:off x="7740720" y="22320"/>
            <a:ext cx="1224000" cy="549360"/>
          </a:xfrm>
          <a:prstGeom prst="rect">
            <a:avLst/>
          </a:prstGeom>
          <a:ln w="0">
            <a:noFill/>
          </a:ln>
        </p:spPr>
      </p:pic>
      <p:sp>
        <p:nvSpPr>
          <p:cNvPr id="46" name="Rectangle 10"/>
          <p:cNvSpPr/>
          <p:nvPr/>
        </p:nvSpPr>
        <p:spPr>
          <a:xfrm>
            <a:off x="2916360" y="115920"/>
            <a:ext cx="3528720" cy="459000"/>
          </a:xfrm>
          <a:prstGeom prst="rect">
            <a:avLst/>
          </a:prstGeom>
          <a:solidFill>
            <a:srgbClr val="ccecff"/>
          </a:solidFill>
          <a:ln w="648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yeloproliferative Neoplasm</a:t>
            </a:r>
            <a:r>
              <a:rPr b="1" lang="en-GB" sz="1200" spc="-1" strike="noStrike">
                <a:solidFill>
                  <a:srgbClr val="000000"/>
                </a:solidFill>
                <a:latin typeface="Calibri"/>
              </a:rPr>
              <a:t> (MPN) Clinical Trials Portfolio</a:t>
            </a:r>
            <a:endParaRPr b="0" lang="en-US" sz="1200" spc="-1" strike="noStrike">
              <a:solidFill>
                <a:srgbClr val="000000"/>
              </a:solidFill>
              <a:latin typeface="Arial"/>
            </a:endParaRPr>
          </a:p>
        </p:txBody>
      </p:sp>
      <p:graphicFrame>
        <p:nvGraphicFramePr>
          <p:cNvPr id="47" name=""/>
          <p:cNvGraphicFramePr/>
          <p:nvPr/>
        </p:nvGraphicFramePr>
        <p:xfrm>
          <a:off x="4940280" y="5229360"/>
          <a:ext cx="4159440" cy="1212840"/>
        </p:xfrm>
        <a:graphic>
          <a:graphicData uri="http://schemas.openxmlformats.org/drawingml/2006/table">
            <a:tbl>
              <a:tblPr/>
              <a:tblGrid>
                <a:gridCol w="1467000"/>
                <a:gridCol w="2692440"/>
              </a:tblGrid>
              <a:tr h="213480">
                <a:tc gridSpan="2">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 </a:t>
                      </a:r>
                      <a:r>
                        <a:rPr b="1" lang="en-GB" sz="800" spc="-1" strike="noStrike">
                          <a:solidFill>
                            <a:srgbClr val="000000"/>
                          </a:solidFill>
                          <a:latin typeface="Calibri"/>
                        </a:rPr>
                        <a:t>Haematology Research contact details</a:t>
                      </a:r>
                      <a:endParaRPr b="0" lang="en-US" sz="800" spc="-1" strike="noStrike">
                        <a:solidFill>
                          <a:srgbClr val="000000"/>
                        </a:solidFill>
                        <a:latin typeface="Arial"/>
                      </a:endParaRPr>
                    </a:p>
                  </a:txBody>
                  <a:tcPr anchor="ctr" marL="90000" marR="90000">
                    <a:lnL w="2880">
                      <a:solidFill>
                        <a:srgbClr val="000000"/>
                      </a:solidFill>
                    </a:lnL>
                    <a:lnR w="13680">
                      <a:solidFill>
                        <a:srgbClr val="000000"/>
                      </a:solidFill>
                    </a:lnR>
                    <a:lnT w="2880">
                      <a:solidFill>
                        <a:srgbClr val="000000"/>
                      </a:solidFill>
                    </a:lnT>
                    <a:lnB w="2880">
                      <a:solidFill>
                        <a:srgbClr val="000000"/>
                      </a:solidFill>
                    </a:lnB>
                    <a:solidFill>
                      <a:srgbClr val="cc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Professor Claire Harriso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Email: claire.harrison@gstt.nhs.uk/ Tel: 0207 1882742</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1348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Dr Deepti Radia</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Email: deepti.radia@gstt.nhs.uk/ Tel: 0207-1883423</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1348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Dr Donal Mclornan</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Email: donal.mclornan@nhs.net</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0720">
                <a:tc>
                  <a:txBody>
                    <a:bodyPr lIns="90000" rIns="90000" anchor="ctr">
                      <a:no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General Enquiries </a:t>
                      </a:r>
                      <a:endParaRPr b="0" lang="en-US" sz="800" spc="-1" strike="noStrike">
                        <a:solidFill>
                          <a:srgbClr val="000000"/>
                        </a:solidFill>
                        <a:latin typeface="Arial"/>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ctr">
                      <a:noAutofit/>
                    </a:bodyPr>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GB" sz="800" spc="-1" strike="noStrike">
                          <a:solidFill>
                            <a:srgbClr val="000000"/>
                          </a:solidFill>
                          <a:latin typeface="Calibri"/>
                        </a:rPr>
                        <a:t>HaematologyResearchTeam@gstt.nhs.uk</a:t>
                      </a:r>
                      <a:endParaRPr b="0" lang="en-US" sz="800" spc="-1" strike="noStrike">
                        <a:solidFill>
                          <a:srgbClr val="000000"/>
                        </a:solidFill>
                        <a:latin typeface="Arial"/>
                      </a:endParaRPr>
                    </a:p>
                    <a:p>
                      <a:pPr>
                        <a:lnSpc>
                          <a:spcPct val="100000"/>
                        </a:lnSpc>
                        <a:spcBef>
                          <a:spcPts val="2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pic>
        <p:nvPicPr>
          <p:cNvPr id="48" name="Picture 14" descr="Illustration of normal blood cells (red discs) along with cancer cells (black spheres) floating through a blood vessel."/>
          <p:cNvPicPr/>
          <p:nvPr/>
        </p:nvPicPr>
        <p:blipFill>
          <a:blip r:embed="rId4"/>
          <a:stretch/>
        </p:blipFill>
        <p:spPr>
          <a:xfrm>
            <a:off x="6659640" y="115920"/>
            <a:ext cx="790560" cy="4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5-22T07:50:53Z</dcterms:created>
  <dc:creator>GSTT</dc:creator>
  <dc:description/>
  <dc:language>en-US</dc:language>
  <cp:lastModifiedBy>Shekouhi Satareh</cp:lastModifiedBy>
  <dcterms:modified xsi:type="dcterms:W3CDTF">2017-10-30T10:48:08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nDIP File ID">
    <vt:lpwstr>e05312a9-9a21-4d5c-877c-1df97627d213</vt:lpwstr>
  </property>
</Properties>
</file>